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722-2F31-4A6E-95EF-CC277D20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D95-25C3-4429-B9E8-AA1E3B7D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D52-BA57-403A-84A1-5D942E38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394-4B28-458F-8CE1-69B59AD0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A68-525C-4ABE-B535-FAB1BFFD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7A8-3294-48F0-B26F-FDF7BA14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BA7-4A90-4BAE-8877-45D5E30D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CBC-F03A-4007-88FA-4BF46D8A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EBF-426B-4A4A-AB21-B2941AE2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E07-E16F-4EFE-AE91-33833E1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B85-BF2D-482A-A46F-88734817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D35-0E04-40E5-8DEF-B0C44608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1A78-63AB-4BE8-B029-8F02AF440886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Snap ITC"/>
              </a:rPr>
              <a:t>ELEMTE INTUITIVE DE GEOMETR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efb5a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Scrieţi în caseta de culoare galbenă de sub fiecare figură geometrică plană denumirea  aceste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 rot="7495200">
            <a:off x="1074600" y="1647720"/>
            <a:ext cx="2374920" cy="29620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9640" y="4149720"/>
            <a:ext cx="2808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5280" y="4797360"/>
            <a:ext cx="3527280" cy="1152720"/>
          </a:xfrm>
          <a:prstGeom prst="rect">
            <a:avLst/>
          </a:prstGeom>
          <a:solidFill>
            <a:srgbClr val="ff0066"/>
          </a:solidFill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755640" y="6165720"/>
            <a:ext cx="2808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932360" y="1557360"/>
            <a:ext cx="2519280" cy="2521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788000" y="4149720"/>
            <a:ext cx="2808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4500720" y="4653000"/>
            <a:ext cx="1979280" cy="1979640"/>
          </a:xfrm>
          <a:prstGeom prst="ellipse">
            <a:avLst/>
          </a:prstGeom>
          <a:solidFill>
            <a:srgbClr val="9933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659640" y="6093000"/>
            <a:ext cx="237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CRIE DENUMIRILE FIGURILOR </a:t>
            </a:r>
            <a:r>
              <a:rPr b="0" lang="ro-RO" sz="2000" spc="-1" strike="noStrike">
                <a:solidFill>
                  <a:srgbClr val="ff0066"/>
                </a:solidFill>
                <a:latin typeface="Arial"/>
              </a:rPr>
              <a:t>ŞI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CORPURILOR</a:t>
            </a:r>
            <a:r>
              <a:rPr b="0" lang="ro-RO" sz="2000" spc="-1" strike="noStrike">
                <a:solidFill>
                  <a:srgbClr val="ff0066"/>
                </a:solidFill>
                <a:latin typeface="Arial"/>
              </a:rPr>
              <a:t> DIN IMAGINE</a:t>
            </a:r>
            <a:r>
              <a:rPr b="0" lang="ro-RO" sz="20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1547640" y="1916280"/>
            <a:ext cx="863640" cy="23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ce6f2"/>
              </a:gs>
              <a:gs pos="100000">
                <a:srgbClr val="4f81bd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 rot="5400000">
            <a:off x="1865160" y="2751120"/>
            <a:ext cx="2366640" cy="696960"/>
          </a:xfrm>
          <a:prstGeom prst="rect">
            <a:avLst/>
          </a:prstGeom>
          <a:solidFill>
            <a:srgbClr val="dae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3635280" y="2852640"/>
            <a:ext cx="1276560" cy="129852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5003640" y="2708280"/>
            <a:ext cx="1368720" cy="136836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8"/>
          <p:cNvGrpSpPr/>
          <p:nvPr/>
        </p:nvGrpSpPr>
        <p:grpSpPr>
          <a:xfrm>
            <a:off x="6516720" y="2133720"/>
            <a:ext cx="865080" cy="1958760"/>
            <a:chOff x="6516720" y="2133720"/>
            <a:chExt cx="865080" cy="1958760"/>
          </a:xfrm>
        </p:grpSpPr>
        <p:sp>
          <p:nvSpPr>
            <p:cNvPr id="58" name="AutoShape 19"/>
            <p:cNvSpPr/>
            <p:nvPr/>
          </p:nvSpPr>
          <p:spPr>
            <a:xfrm>
              <a:off x="6516720" y="2133720"/>
              <a:ext cx="865080" cy="1674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585232"/>
                </a:gs>
                <a:gs pos="100000">
                  <a:srgbClr val="938953"/>
                </a:gs>
              </a:gsLst>
              <a:lin ang="2700000"/>
            </a:gradFill>
            <a:ln w="324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6516720" y="3569760"/>
              <a:ext cx="865080" cy="522720"/>
            </a:xfrm>
            <a:prstGeom prst="ellipse">
              <a:avLst/>
            </a:prstGeom>
            <a:gradFill rotWithShape="0">
              <a:gsLst>
                <a:gs pos="0">
                  <a:srgbClr val="585232"/>
                </a:gs>
                <a:gs pos="100000">
                  <a:srgbClr val="938953"/>
                </a:gs>
              </a:gsLst>
              <a:lin ang="2700000"/>
            </a:gradFill>
            <a:ln w="324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AutoShape 21"/>
          <p:cNvSpPr/>
          <p:nvPr/>
        </p:nvSpPr>
        <p:spPr>
          <a:xfrm>
            <a:off x="7667640" y="1989000"/>
            <a:ext cx="1225440" cy="2129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95280" y="4581360"/>
            <a:ext cx="3960720" cy="162000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611280" y="1916280"/>
            <a:ext cx="733320" cy="2211120"/>
          </a:xfrm>
          <a:prstGeom prst="triangle">
            <a:avLst>
              <a:gd name="adj" fmla="val 50000"/>
            </a:avLst>
          </a:prstGeom>
          <a:solidFill>
            <a:srgbClr val="f2db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82692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69236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843280" y="3933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378000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5435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680400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95672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395280" y="472428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5003640" y="4581360"/>
            <a:ext cx="3816360" cy="1620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5148360" y="1557360"/>
            <a:ext cx="107928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536400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922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99"/>
                </a:solidFill>
                <a:latin typeface="Arial"/>
              </a:rPr>
              <a:t>SCRIE CÂTE FIGURI SUNT ÎN DESENUL DE MAI J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71640" y="2133720"/>
            <a:ext cx="6696000" cy="266364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219564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644364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2195640" y="285264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43640" y="2133720"/>
            <a:ext cx="122400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971640" y="364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826920" y="5084640"/>
            <a:ext cx="6913800" cy="132624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.DREPTUNGHIU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.TRIUNGHI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3.PĂ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H="1">
            <a:off x="2195640" y="2852640"/>
            <a:ext cx="4248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CALCULEAZĂ DIFERENŢA NUMERELOR DIN INTERIORUL CERCULUI ŞI SUMA NUMERELOR DIN EXTERIORUL CERC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340000" y="2492280"/>
            <a:ext cx="4176720" cy="25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3492360" y="2852640"/>
            <a:ext cx="1944720" cy="1873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924360" y="37162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796000" y="3357720"/>
            <a:ext cx="5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77164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042920" y="5157720"/>
            <a:ext cx="74167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9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57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6600"/>
                </a:solidFill>
                <a:latin typeface="comic"/>
              </a:rPr>
              <a:t>FORME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20640"/>
            <a:ext cx="9144000" cy="12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electaţi şi mutaţi în figurile geometrice plane mari pe cele care sunt mici şi de aceeaşi form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24000" y="1989000"/>
            <a:ext cx="2952720" cy="36720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 rot="19771200">
            <a:off x="6156360" y="2133720"/>
            <a:ext cx="792000" cy="43164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4859280" y="6237360"/>
            <a:ext cx="1441440" cy="360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 rot="2760600">
            <a:off x="8423640" y="4689000"/>
            <a:ext cx="792000" cy="431640"/>
          </a:xfrm>
          <a:prstGeom prst="rtTriangle">
            <a:avLst/>
          </a:prstGeom>
          <a:solidFill>
            <a:srgbClr val="ff6600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2411280" y="5734080"/>
            <a:ext cx="432000" cy="863640"/>
          </a:xfrm>
          <a:prstGeom prst="rtTriangle">
            <a:avLst/>
          </a:prstGeom>
          <a:solidFill>
            <a:srgbClr val="ffcc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411280" y="1916280"/>
            <a:ext cx="3527640" cy="1152360"/>
          </a:xfrm>
          <a:prstGeom prst="rect">
            <a:avLst/>
          </a:prstGeom>
          <a:solidFill>
            <a:srgbClr val="b9e5c7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468360" y="5877000"/>
            <a:ext cx="358560" cy="72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 rot="1034400">
            <a:off x="7020000" y="3284280"/>
            <a:ext cx="93672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 rot="5400000">
            <a:off x="8100000" y="3356640"/>
            <a:ext cx="1044360" cy="684360"/>
          </a:xfrm>
          <a:prstGeom prst="rect">
            <a:avLst/>
          </a:prstGeom>
          <a:solidFill>
            <a:srgbClr val="0066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 rot="7977000">
            <a:off x="164520" y="2408040"/>
            <a:ext cx="1260720" cy="422280"/>
          </a:xfrm>
          <a:prstGeom prst="rect">
            <a:avLst/>
          </a:prstGeom>
          <a:solidFill>
            <a:srgbClr val="0000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3348000" y="3284640"/>
            <a:ext cx="2664000" cy="2663640"/>
          </a:xfrm>
          <a:prstGeom prst="rect">
            <a:avLst/>
          </a:prstGeom>
          <a:solidFill>
            <a:srgbClr val="9933ff"/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179280" y="3357720"/>
            <a:ext cx="719280" cy="720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7380360" y="1989000"/>
            <a:ext cx="1081080" cy="1081080"/>
          </a:xfrm>
          <a:prstGeom prst="rect">
            <a:avLst/>
          </a:prstGeom>
          <a:solidFill>
            <a:srgbClr val="0066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3419640" y="6137280"/>
            <a:ext cx="539640" cy="539640"/>
          </a:xfrm>
          <a:prstGeom prst="rect">
            <a:avLst/>
          </a:prstGeom>
          <a:solidFill>
            <a:srgbClr val="008080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8172360" y="5877000"/>
            <a:ext cx="900360" cy="900000"/>
          </a:xfrm>
          <a:prstGeom prst="rect">
            <a:avLst/>
          </a:prstGeom>
          <a:solidFill>
            <a:srgbClr val="6600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4"/>
          <p:cNvSpPr/>
          <p:nvPr/>
        </p:nvSpPr>
        <p:spPr>
          <a:xfrm>
            <a:off x="6157800" y="3789360"/>
            <a:ext cx="2159280" cy="2158920"/>
          </a:xfrm>
          <a:prstGeom prst="ellipse">
            <a:avLst/>
          </a:prstGeom>
          <a:solidFill>
            <a:srgbClr val="ff00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5"/>
          <p:cNvSpPr/>
          <p:nvPr/>
        </p:nvSpPr>
        <p:spPr>
          <a:xfrm>
            <a:off x="7020000" y="6094440"/>
            <a:ext cx="503280" cy="503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6"/>
          <p:cNvSpPr/>
          <p:nvPr/>
        </p:nvSpPr>
        <p:spPr>
          <a:xfrm>
            <a:off x="6300720" y="3213000"/>
            <a:ext cx="503280" cy="50328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7"/>
          <p:cNvSpPr/>
          <p:nvPr/>
        </p:nvSpPr>
        <p:spPr>
          <a:xfrm>
            <a:off x="2484360" y="3141720"/>
            <a:ext cx="719280" cy="71892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8"/>
          <p:cNvSpPr/>
          <p:nvPr/>
        </p:nvSpPr>
        <p:spPr>
          <a:xfrm>
            <a:off x="1116000" y="5734080"/>
            <a:ext cx="1079640" cy="1079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Exerciţiul 4</a:t>
            </a:r>
            <a:br>
              <a:rPr sz="2400"/>
            </a:b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1.Desenaţi un cerc, în interiorul  triunghiului;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2.Desenează un dreptunghi, un pătrat. În interiorul dreptunghiului    desenează un triunghi, iar în interiorul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ătratului două cercu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99"/>
                </a:solidFill>
                <a:latin typeface="Arial"/>
              </a:rPr>
              <a:t>Stabileşte</a:t>
            </a: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333399"/>
                </a:solidFill>
                <a:latin typeface="Arial"/>
              </a:rPr>
              <a:t>corespondenţa între cele două colo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7380360" y="1773360"/>
            <a:ext cx="733320" cy="649080"/>
          </a:xfrm>
          <a:prstGeom prst="triangle">
            <a:avLst>
              <a:gd name="adj" fmla="val 50000"/>
            </a:avLst>
          </a:prstGeom>
          <a:solidFill>
            <a:srgbClr val="f2db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611280" y="2781360"/>
            <a:ext cx="718920" cy="71892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611280" y="3716280"/>
            <a:ext cx="792000" cy="72072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11280" y="4724280"/>
            <a:ext cx="792000" cy="720720"/>
          </a:xfrm>
          <a:prstGeom prst="rect">
            <a:avLst/>
          </a:prstGeom>
          <a:solidFill>
            <a:srgbClr val="0066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611280" y="5734080"/>
            <a:ext cx="158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684360" y="1700280"/>
            <a:ext cx="576000" cy="936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ce6f2"/>
              </a:gs>
              <a:gs pos="100000">
                <a:srgbClr val="4f81bd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1"/>
          <p:cNvGrpSpPr/>
          <p:nvPr/>
        </p:nvGrpSpPr>
        <p:grpSpPr>
          <a:xfrm>
            <a:off x="7380360" y="2565360"/>
            <a:ext cx="865080" cy="1023840"/>
            <a:chOff x="7380360" y="2565360"/>
            <a:chExt cx="865080" cy="1023840"/>
          </a:xfrm>
        </p:grpSpPr>
        <p:sp>
          <p:nvSpPr>
            <p:cNvPr id="121" name="AutoShape 22"/>
            <p:cNvSpPr/>
            <p:nvPr/>
          </p:nvSpPr>
          <p:spPr>
            <a:xfrm>
              <a:off x="7380360" y="2565360"/>
              <a:ext cx="865080" cy="875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585232"/>
                </a:gs>
                <a:gs pos="100000">
                  <a:srgbClr val="938953"/>
                </a:gs>
              </a:gsLst>
              <a:lin ang="2700000"/>
            </a:gradFill>
            <a:ln w="324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3"/>
            <p:cNvSpPr/>
            <p:nvPr/>
          </p:nvSpPr>
          <p:spPr>
            <a:xfrm>
              <a:off x="7380360" y="3315960"/>
              <a:ext cx="865080" cy="273240"/>
            </a:xfrm>
            <a:prstGeom prst="ellipse">
              <a:avLst/>
            </a:prstGeom>
            <a:gradFill rotWithShape="0">
              <a:gsLst>
                <a:gs pos="0">
                  <a:srgbClr val="585232"/>
                </a:gs>
                <a:gs pos="100000">
                  <a:srgbClr val="938953"/>
                </a:gs>
              </a:gsLst>
              <a:lin ang="2700000"/>
            </a:gradFill>
            <a:ln w="324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24"/>
          <p:cNvSpPr/>
          <p:nvPr/>
        </p:nvSpPr>
        <p:spPr>
          <a:xfrm>
            <a:off x="7524720" y="3789360"/>
            <a:ext cx="722520" cy="13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5"/>
          <p:cNvSpPr/>
          <p:nvPr/>
        </p:nvSpPr>
        <p:spPr>
          <a:xfrm>
            <a:off x="7093080" y="5516640"/>
            <a:ext cx="15112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3419640" y="2205000"/>
            <a:ext cx="2879640" cy="370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REPTUNG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Ă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FE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RIUNG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Ă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ILIND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 flipV="1">
            <a:off x="1692360" y="2420640"/>
            <a:ext cx="180000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ebb3e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IGURI GEOMET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1739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flaţi suma numerelor din figurile geometrice de acelaşi f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2195640" y="2781360"/>
            <a:ext cx="1152360" cy="1150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492360" y="2349360"/>
            <a:ext cx="1440000" cy="1490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826920" y="4076640"/>
            <a:ext cx="2571840" cy="698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755640" y="2637000"/>
            <a:ext cx="1295280" cy="1272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1"/>
          <p:cNvSpPr/>
          <p:nvPr/>
        </p:nvSpPr>
        <p:spPr>
          <a:xfrm>
            <a:off x="7020000" y="1844640"/>
            <a:ext cx="141912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300720" y="3357720"/>
            <a:ext cx="2016360" cy="914400"/>
          </a:xfrm>
          <a:prstGeom prst="rect">
            <a:avLst/>
          </a:prstGeom>
          <a:solidFill>
            <a:srgbClr val="efb5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826920" y="2698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3635280" y="2781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2268360" y="2781360"/>
            <a:ext cx="6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7451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673272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826920" y="4005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0"/>
          <p:cNvSpPr/>
          <p:nvPr/>
        </p:nvSpPr>
        <p:spPr>
          <a:xfrm>
            <a:off x="5076720" y="328464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292720" y="3645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971640" y="1773360"/>
            <a:ext cx="2233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147636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539640" y="5013360"/>
            <a:ext cx="8064720" cy="70776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6"/>
          <p:cNvSpPr/>
          <p:nvPr/>
        </p:nvSpPr>
        <p:spPr>
          <a:xfrm>
            <a:off x="3708360" y="3933720"/>
            <a:ext cx="2232000" cy="86364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399564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9"/>
          <p:cNvSpPr/>
          <p:nvPr/>
        </p:nvSpPr>
        <p:spPr>
          <a:xfrm rot="2760600">
            <a:off x="5051160" y="2066760"/>
            <a:ext cx="1657440" cy="812880"/>
          </a:xfrm>
          <a:prstGeom prst="rtTriangle">
            <a:avLst/>
          </a:prstGeom>
          <a:solidFill>
            <a:srgbClr val="ff6600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0"/>
          <p:cNvSpPr/>
          <p:nvPr/>
        </p:nvSpPr>
        <p:spPr>
          <a:xfrm>
            <a:off x="5148360" y="21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3:07:31Z</dcterms:created>
  <dc:creator>Petre</dc:creator>
  <dc:description/>
  <dc:language>en-US</dc:language>
  <cp:lastModifiedBy>asd</cp:lastModifiedBy>
  <dcterms:modified xsi:type="dcterms:W3CDTF">2009-04-07T05:33:04Z</dcterms:modified>
  <cp:revision>34</cp:revision>
  <dc:subject/>
  <dc:title>FORME PLANE</dc:title>
</cp:coreProperties>
</file>